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A05-EA40-45AF-8B01-16FE4424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5B6-EAC5-4F46-945C-BA774B0F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F9D-D9D3-4E2A-A9BE-00E81A97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FF4-AC4A-4D99-95D1-1B7F8124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050-9FBD-44CD-A989-92D18A4C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17D-FFA2-469D-BE84-E9D0676C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D06-11DE-4E84-B54E-5FD4BA07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336-250A-4938-A27C-D57306D8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B5C-FCA0-4401-A731-A5982713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945-2988-4D9F-9A35-F99B650B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F14-1F7D-4E1C-B03D-B681E8F5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89CB-5C0A-4DE2-84DE-1B362125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F8E1-2DD6-4046-B9AB-A9FEEC774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sychological Disorders Chap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Blair-Broeker_CO12"/>
          <p:cNvPicPr/>
          <p:nvPr/>
        </p:nvPicPr>
        <p:blipFill>
          <a:blip r:embed="rId1"/>
          <a:stretch/>
        </p:blipFill>
        <p:spPr>
          <a:xfrm>
            <a:off x="1219320" y="1905120"/>
            <a:ext cx="6858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usions of Persec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lse beliefs that people are out to get the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lieve they are being followed, the phone is wiretapped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usions of Sin or Gu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lse beliefs that the person is responsible for some misfor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usions of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lse beliefs of being controlled by outside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uc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 perceptions that are symptoms of schizophrenia or other serious psychological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hallucin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tory (hearing vo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 (seeing th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ctile (feeling skin sens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lso have distorted smell and t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appropriate Emotions/Behavi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at affect – showing little or no emotional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d salad – nonsense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xy flexibility – the person’s arms and legs will remain in place after being moved 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chizophrenia Disorders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ypes of Schizophre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Blair-Broeker_fi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9388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noid Schizophr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acterized by delusions, especially grandeur and persecution.  Auditory and other hallucinations support the delus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Blair-Broeker_31UN03"/>
          <p:cNvPicPr/>
          <p:nvPr/>
        </p:nvPicPr>
        <p:blipFill>
          <a:blip r:embed="rId1"/>
          <a:stretch/>
        </p:blipFill>
        <p:spPr>
          <a:xfrm>
            <a:off x="5178600" y="1752480"/>
            <a:ext cx="3965400" cy="3713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412240" y="5791320"/>
            <a:ext cx="31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autiful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atonic Schizophr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acterized by variations in voluntary m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tatonic excitement – rapid movements with delusions and halluci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tatonic stupor – little or no activity, movement, or speech (waxy flexibil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organized Schizophr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acterized by bizarre behavior, delusions, and hallucin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y disturbed thought and language (word sala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ssociative, Schizophrenia, and Personality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ule 3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ifferentiated Schizophr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mptoms that don’t clearly fit into one of the other types of schizophrenia but still show clear symptoms of schizophr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chizophrenia Disorders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Factors -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hizophrenia tends to run in famil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tics appears to produce a predisposition (increased likelihood) to develop schizophren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Blair-Broeker_fig"/>
          <p:cNvPicPr/>
          <p:nvPr/>
        </p:nvPicPr>
        <p:blipFill>
          <a:blip r:embed="rId1"/>
          <a:stretch/>
        </p:blipFill>
        <p:spPr>
          <a:xfrm>
            <a:off x="5184720" y="3505320"/>
            <a:ext cx="3578400" cy="3070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823120" y="457200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ain Quadrup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Blair-Broeker_fig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21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and Schizophr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Factors – Brai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ain structure of those with schizophrenia is different than the normal b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ose with schizophrenia have smaller amounts of brain tissue and larger fluid filled spa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halamus is smaller in those with schizophren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Factors – Brai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rain of those with schizophrenia operates differently than the normal br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rontal lobes show less activ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ose with schizophrenia have a larger number of receptor sites for the neurotransmitter dopam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Factors – Brai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Blair-Broeker_31UN04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Factors – Prenatal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iral infection during the middle of pregnancy may increase schizophrenia ris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ychologica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main are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urbed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unclear whether these are causes or consequences of schizophren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ssociative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chizophrenia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sociative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orders in which the sense of self has become separated (dissociated) from previous memories, thoughts, or feel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Dissociative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main typ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sociative Amne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sociative Fu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sociative Identi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Blair-Broeker_fig"/>
          <p:cNvPicPr/>
          <p:nvPr/>
        </p:nvPicPr>
        <p:blipFill>
          <a:blip r:embed="rId1"/>
          <a:stretch/>
        </p:blipFill>
        <p:spPr>
          <a:xfrm>
            <a:off x="0" y="1477800"/>
            <a:ext cx="9144000" cy="5075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sociative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ssociative Disorders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ssociative Amnes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sociative Amne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dissociative disorder characterized by loss of memory in reaction to a traumatic ev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soldiers in comb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ssociative Disorders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ssociative Fug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sociative Fu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dissociative disorder characterized by loss of identity and travel to a new l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rson may develop a new identity and begin a new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ssociative Disorders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ssociative Identity Disord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sociative Ident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re and controversial dissociative disorder in which an individual experiences two or more distinct and alternating person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erly called multiple person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sociative Ident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onalities can be different ages, sex, and self perception of 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Faces of 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b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Blair-Broeker_31UN02b"/>
          <p:cNvPicPr/>
          <p:nvPr/>
        </p:nvPicPr>
        <p:blipFill>
          <a:blip r:embed="rId1"/>
          <a:stretch/>
        </p:blipFill>
        <p:spPr>
          <a:xfrm>
            <a:off x="4724280" y="2743200"/>
            <a:ext cx="3454560" cy="3809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Blair-Broeker_31UN02a"/>
          <p:cNvPicPr/>
          <p:nvPr/>
        </p:nvPicPr>
        <p:blipFill>
          <a:blip r:embed="rId2"/>
          <a:stretch/>
        </p:blipFill>
        <p:spPr>
          <a:xfrm>
            <a:off x="533520" y="3809880"/>
            <a:ext cx="3809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izophr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oup of severe disorders characterized by disorganized and delusional thinking, disturbed perceptions, and inappropriate emotions and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not one disorder but a family of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not “split personalit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ccurs in about 1% of the pop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ersonality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it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ychological disorders characterized by rigid and lasting behavior patterns that disrupt social funct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vided into three clus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ed to anxi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odd and eccentric behavi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dramatic or impulsive behavi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it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Blair-Broeker_fig"/>
          <p:cNvPicPr/>
          <p:nvPr/>
        </p:nvPicPr>
        <p:blipFill>
          <a:blip r:embed="rId1"/>
          <a:stretch/>
        </p:blipFill>
        <p:spPr>
          <a:xfrm>
            <a:off x="0" y="1501920"/>
            <a:ext cx="91440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ersonality Disorders Related to Anxiet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ant Personal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 sensitive about being rejected that personal relationships become diffic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t Personal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have in clingy, submissive ways and displays a strong need to have others take care of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ersonality Disorders with Odd or Eccentric Behavio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noid Personal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ows deep distrust of other people, which gets in the way of personal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than paranoid schizophr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izoid Personal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detached from social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true hermits, preferring life alone and avoiding intimate interactions at all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ersonality Disorders with Dramatic or Impulsive Behavio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chizophrenia Disorders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ymptoms of Schizophre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rderline Personal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hibit instability of emotions, self-image, behavior, and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social Personal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onality disorder in which the person shows a lack of conscience for wrong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ows no respects for the rights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ually m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so known as psychopathic or sociopathic personali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ptoms of Schizophr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mptoms of schizophrenia inclu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lusions (false belief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llucinations (false perceptio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appropriate emotions or behavi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lair-Broeker_fi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1096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 beliefs that are symptoms of schizophrenia and other serious psychological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major types of delu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nd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 or gu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usions of Grand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lse beliefs that a person is more important than they really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ients may believe they are a famous person (e.g. Napole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2:17:26Z</dcterms:created>
  <dc:creator>Home</dc:creator>
  <dc:description/>
  <dc:language>en-US</dc:language>
  <cp:lastModifiedBy>Meghan Reilly</cp:lastModifiedBy>
  <dcterms:modified xsi:type="dcterms:W3CDTF">2011-12-02T17:09:49Z</dcterms:modified>
  <cp:revision>66</cp:revision>
  <dc:subject/>
  <dc:title>Psychology</dc:title>
</cp:coreProperties>
</file>